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9BB-6F06-46DE-9FF6-750F79B1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A0B-8305-4E5D-9FCD-3F16793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123-753E-4745-A075-E09D897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27A-37D7-484A-98CF-B4091064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4D88-F49C-4C72-A968-BAC8304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0584-2310-4633-AA68-B74F2FA0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8BB-D86F-4E91-A8F1-0B5CE6CC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85F6-A51D-444F-B1C0-36DF44A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51E-CA94-4DEF-ABB1-7CFB9DEC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59C0-32AD-437E-9DA4-BB3FA7C5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394B-72A7-4C8D-95AA-627DD0DC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D4D-AEC2-4CF4-8F3A-D84337D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34C7-7F1D-475D-BB7F-57A2E479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E32-145A-44AE-AEA2-9BE7F3F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19F0-00B8-4ED6-A9E0-3204363C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5CE6-13F6-45EA-912E-3D77B6A0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2E27-B1F6-4FF8-A651-7FD719B5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4A4-6C80-4DD3-9348-F1D21E6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C2F-704B-4924-B094-B79E78E9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9F0-ECF3-4A11-A9CE-9D500151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C7F-D99B-4BB7-8A7E-DACDCC05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35C-1E96-4A97-B29D-0FD16D36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B6D-90E5-4B17-B7DD-9F3856E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BF8-50B1-4B9D-B01C-1C1B9D2C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A66-05AE-41D4-90A3-488D2235F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D14E-3DE4-4D36-AEF1-216A0057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Ebertfriedric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9/9a/Spartacus_fight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 Weimar Republic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ikor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rm was used for the right-wing paramilitary organizations that sprang up around Germany as soldiers returned in defeat from WW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were the key Weimar paramilitary groups active during that tim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German veterans felt disconnected from civilian life, and joined a Freikorps in search of stability within a military structure. Others, angry at their sudden, apparently inexplicable defeat, joined up in an effort to put down Communist uprisings or exact some form of reveng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y were officially 'disbanded' in 1920; but some, instead of disbanding, attempted to overthrow the government in the Kapp Putsch in March 192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Germany’s Government before WW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16000" y="1700280"/>
            <a:ext cx="6032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ong tradition of authoritarian rule and no experience of democracy or equal rights and freed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fter The German states united in 1871, authority was held by the Kaiser and his Chancel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lthough a parliament existed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t could only amend 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Kaiser was able to appoint and dismiss all officials, to decl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war or peace and conduct foreign affai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hw_wilhelm_02"/>
          <p:cNvPicPr/>
          <p:nvPr/>
        </p:nvPicPr>
        <p:blipFill>
          <a:blip r:embed="rId1"/>
          <a:stretch/>
        </p:blipFill>
        <p:spPr>
          <a:xfrm>
            <a:off x="250920" y="1844640"/>
            <a:ext cx="2590560" cy="3960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50920" y="5950080"/>
            <a:ext cx="2592360" cy="368280"/>
          </a:xfrm>
          <a:prstGeom prst="rect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iser Wilhelm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6327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Difficulty obtaining raw materials for manufactu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Food shor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abour regulated by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Kaiser Wilhelm and the Chancellor quickly lost power – they were replaced by military team (Hindenburg and Ludendorf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Germany during WW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9" descr="hw_wilhelm_02"/>
          <p:cNvPicPr/>
          <p:nvPr/>
        </p:nvPicPr>
        <p:blipFill>
          <a:blip r:embed="rId1"/>
          <a:stretch/>
        </p:blipFill>
        <p:spPr>
          <a:xfrm>
            <a:off x="2843280" y="1197000"/>
            <a:ext cx="3201840" cy="4896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0"/>
          <p:cNvSpPr/>
          <p:nvPr/>
        </p:nvSpPr>
        <p:spPr>
          <a:xfrm>
            <a:off x="2124000" y="1268280"/>
            <a:ext cx="4659480" cy="4370400"/>
          </a:xfrm>
          <a:custGeom>
            <a:avLst/>
            <a:gdLst>
              <a:gd name="textAreaLeft" fmla="*/ 682200 w 4659480"/>
              <a:gd name="textAreaRight" fmla="*/ 3977280 w 4659480"/>
              <a:gd name="textAreaTop" fmla="*/ 639720 h 4370400"/>
              <a:gd name="textAreaBottom" fmla="*/ 3730680 h 437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95" y="17429"/>
                </a:moveTo>
                <a:cubicBezTo>
                  <a:pt x="19744" y="15615"/>
                  <a:pt x="20658" y="13251"/>
                  <a:pt x="20658" y="10800"/>
                </a:cubicBezTo>
                <a:cubicBezTo>
                  <a:pt x="20658" y="5355"/>
                  <a:pt x="16244" y="942"/>
                  <a:pt x="10800" y="942"/>
                </a:cubicBezTo>
                <a:cubicBezTo>
                  <a:pt x="8348" y="941"/>
                  <a:pt x="5984" y="1855"/>
                  <a:pt x="4170" y="3504"/>
                </a:cubicBezTo>
                <a:lnTo>
                  <a:pt x="18095" y="17429"/>
                </a:lnTo>
                <a:close/>
                <a:moveTo>
                  <a:pt x="3504" y="4170"/>
                </a:moveTo>
                <a:cubicBezTo>
                  <a:pt x="1855" y="5984"/>
                  <a:pt x="941" y="8348"/>
                  <a:pt x="941" y="10799"/>
                </a:cubicBezTo>
                <a:cubicBezTo>
                  <a:pt x="942" y="16244"/>
                  <a:pt x="5355" y="20658"/>
                  <a:pt x="10800" y="20658"/>
                </a:cubicBezTo>
                <a:cubicBezTo>
                  <a:pt x="13251" y="20658"/>
                  <a:pt x="15615" y="19744"/>
                  <a:pt x="17429" y="18095"/>
                </a:cubicBezTo>
                <a:lnTo>
                  <a:pt x="3504" y="417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kowno_hindenburg%2Bludendorff1"/>
          <p:cNvPicPr/>
          <p:nvPr/>
        </p:nvPicPr>
        <p:blipFill>
          <a:blip r:embed="rId2"/>
          <a:stretch/>
        </p:blipFill>
        <p:spPr>
          <a:xfrm>
            <a:off x="1692360" y="620640"/>
            <a:ext cx="5346720" cy="592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How Germany became a Democra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3137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When it was realised that the war was lost, it was also realised that the allies would not negotiate peace with an undemocratic country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Power handed over to Reichstag (Parliament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The new democratic government was then blamed for the defeat within Germany by prominent German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Verdana"/>
              </a:rPr>
              <a:t>Discipline had begun to break down within the army – because of food shortages and feelings of defeat – the people demanded the overthrow of the Kaiser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1280" y="5877000"/>
            <a:ext cx="3816360" cy="6984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ichstag: German Parlia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859280" y="602136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227640" y="5877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to Gloss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Strengths of the New Democra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Verdana"/>
              </a:rPr>
              <a:t>First time German people were given democratic right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Equality before la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Personal liber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Freedom of speec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Assemb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Verdana"/>
              </a:rPr>
              <a:t>Relig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666"/>
                </a:solidFill>
                <a:latin typeface="Arial"/>
              </a:rPr>
              <a:t>Weaknesses of the Weimar Republic and Constitu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oting based on proportional representation – any party that gained 60 000 votes won a seat – even small parties could gain a s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is made it difficult to establish a stable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30 different parties came to power in a short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Larger parties forced to form coalitions with small pa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Article 48 of constitution – allowed the President extraordinary powers in times of emergency (overruling democrac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Key People and Group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edrich Ebe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58920" y="1827000"/>
            <a:ext cx="56242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iedrich Ebe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as a German politician from the Social Democratic Party (SDP), who served as Chancellor of Germany and its first president during the Weimar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Friedrich Ebe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268360" cy="324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partacis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79640" y="1700280"/>
            <a:ext cx="511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partacist Leagu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was a left-wing Marxist revolutionary movement organized in Germany during and just after the politically volatile years of WWI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League subsequently renamed itself the Communist Party of Germany (KPD), joining the Comintern in 1919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League and the subsequent KPD were famous for street battles with police and other direct action militant activities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7" descr="Image:Spartacus figh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89000"/>
            <a:ext cx="3457440" cy="2644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0" y="4797360"/>
            <a:ext cx="356400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munists of the Spartacist League fighting in the streets of Berlin during the German Revolution 1918-1919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22:07:42Z</dcterms:created>
  <dc:creator>scgiles</dc:creator>
  <dc:description/>
  <cp:keywords/>
  <dc:language>en-US</dc:language>
  <cp:lastModifiedBy>Deborah Holland</cp:lastModifiedBy>
  <dcterms:modified xsi:type="dcterms:W3CDTF">2011-02-11T00:44:34Z</dcterms:modified>
  <cp:revision>9</cp:revision>
  <dc:subject/>
  <dc:title>The Weimar Republ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